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4D6-9C8B-4691-A39F-45A7966C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9A0-CDB3-42C7-B3F8-CE21E993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494-FF9E-41DE-A619-05BF7452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88A-C755-45B6-AF10-779D6E0F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950-E89C-4ACE-B9A8-1D7D7725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12C-F461-4914-8C1F-1910501F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075-52B4-4A25-A9E6-CC562838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73A-B759-4133-BFEF-7FDB8ADE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7A8-72DD-4D78-8ACC-EAD4FCBE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514-1113-47BB-BD50-BC6E240E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6DB-E826-4C41-8434-B4D343E0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A1C-12F6-474D-AC6B-055634E1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6F93-7205-4400-9D45-A2A10B67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:  Beast from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2133720"/>
            <a:ext cx="67816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chapter, respond to the following slides on your hand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Predict (1-2 sentences) what do you think this chapter is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9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does Simon think is the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10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 does Ralph have the assembly vote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tom of Page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11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age 9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iggy wants Ralph to blow the conch and have Jack and the hunters come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alph is worried that if he does blow the conch, that they won’t come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were to advise Ralph, would you tell him to b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  Blow the Co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 Let the hunters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12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MIGHT be Golding foreshadowing in Piggy’s spe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3:  Use the separate handout for this answ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 know about people.  I know about me. And him. He can’t hurt you: but if you stand out of the way he’d hurt the next thing.  And that’s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13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as your prediction right from question #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2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ow does Ralph feel about island living after a few weeks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2895480"/>
            <a:ext cx="7543800" cy="33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76-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ocus on the last paragraph on page 76 and the top of page 77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3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In what way does Ralph realize he needs Pig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0773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alph moved impatiently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 3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ist 3 things that Ralph tells the boys they need to work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79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o you think Ralph is having fun being the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4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y is that fire SO important to Ral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ook at us! How many are we?  And yet we can’t keep a fire going to make smoke.  Don’t you understand? Can’t you see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we ought to—ought to die before we let the fire out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5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“beast” is Piggy afraid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83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scuss:  What “beast” would you be afraid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6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it’s an easy one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Which boy sneak out into the forest at 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7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ow did Maurice get the littluns to STOP cry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Question #8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hat is Ralph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ttom of Page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e could see a whiteness in the gloom near him so he grabbed it from Maurice and blew as loudly as he cou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18:41Z</dcterms:created>
  <dc:creator>BPS</dc:creator>
  <dc:description/>
  <dc:language>en-US</dc:language>
  <cp:lastModifiedBy>BPS</cp:lastModifiedBy>
  <dcterms:modified xsi:type="dcterms:W3CDTF">2011-03-24T23:57:19Z</dcterms:modified>
  <cp:revision>24</cp:revision>
  <dc:subject/>
  <dc:title>Chapter 5:  Beast from Water</dc:title>
</cp:coreProperties>
</file>